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8A44-64DE-43B4-A0EC-2D3C7D3CB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3EB5-07BA-4A74-B71B-D0D40A6F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C40B-2F30-4DB7-A247-025BD3F62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2DB4-A3C0-4356-9AD1-08768A776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129A-2107-442F-93D7-5236BF981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548E-D0C0-4B50-8C2A-FF313BA5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A63E-1573-4B38-8573-8B1B8040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01D6-2139-41BF-86A3-9BA24435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235F-AE01-42B1-ACEC-93F0009A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AA50-2CD6-4F4F-9F82-EA9E5586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13DC-0BFE-4A53-9DA7-1212C365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89C9-6E29-4A8C-9F4E-5649AF47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963E-B90B-4D50-859D-141162A8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757F-D474-4F25-8D83-20124AB7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5CA5-08F5-4810-BDC6-0E319D27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5AFB-199C-4A5C-8DD9-F96499B45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372B-3A5C-43A6-9458-43CEFE662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6F5E-F0F5-4B4B-9A0E-150B6B60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DCF7-25BF-4024-A4BC-B478416B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34CD-9509-4A81-9530-BB3F2BE4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1C18-A351-4D46-B510-2D33C115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509C-1F7D-496A-8FCA-8679A080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8DE4-F585-4376-8C90-538E4760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FC22-5272-4C62-85DF-CFE9C0A9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A7EC-BC12-44E8-B2FC-8231A6F022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852480"/>
            <a:ext cx="9009000" cy="1052640"/>
            <a:chOff x="0" y="8524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960480"/>
              <a:ext cx="711360" cy="474840"/>
              <a:chOff x="290520" y="9604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9604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9604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382760"/>
              <a:ext cx="737640" cy="474840"/>
              <a:chOff x="414360" y="13827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3827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3827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3096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8524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6747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EE50-BCB7-44EE-A82E-17DC38794E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nternetworldstats.com/stats1.htm" TargetMode="External"/><Relationship Id="rId2" Type="http://schemas.openxmlformats.org/officeDocument/2006/relationships/hyperlink" Target="http://www.internetworldstats.com/stats3.ht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Sıtkı Coşk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Türkiye Bankalar Birliğ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Mayıs 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Kullanım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7240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nternet ile 12 Nisan 1993 tarihinde tanışan Türkiye’de kullanıcı sayısı 17 milyona, İnternete bağlı bilgisayar sayısı 700 bine ulaştı.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TÜİK 2006 Ocak ayı raporuna göre şirketlerde bilgisayar kullanımı oranı yaklaşık % 88, internet erişimi oranı % 80’lere ulaşmışt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*Kaynak: </a:t>
            </a:r>
            <a:r>
              <a:rPr b="0" lang="tr-TR" sz="1800" spc="-1" strike="noStrike" u="sng">
                <a:solidFill>
                  <a:srgbClr val="333399"/>
                </a:solidFill>
                <a:uFillTx/>
                <a:latin typeface="Tahoma"/>
              </a:rPr>
              <a:t>http://www.turk.internet.com/haber/yazigoster.php3?yaziid=179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737E-F794-4503-A4A2-F68501C7D8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89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Kullanım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84360" y="2492280"/>
          <a:ext cx="7619760" cy="35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492280"/>
                    <a:ext cx="761976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755640" y="206064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Hanehalkı Bireylerin İnternet Kullanma Amaçlar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00000" y="6165720"/>
            <a:ext cx="61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6078600"/>
            <a:ext cx="71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* Kaynak: Türkiye İstatistik Kurumu (TÜİK)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6D10-101A-448A-8246-E5BCA49FCE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2060640"/>
            <a:ext cx="8713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Türkiye Bankalar Birliği verilerine göre Mart 2007 dönemind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 bankacılığı için kayıtlı bireysel müşteri sayısı: 17.385.363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Ocak-Mart 2007 döneminde en az bir kez internet bankacılığı işlemi yapmış bireysel müşteri sayısı: 3.059.573  (oranı: %1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 bankacılığına kayıtlı kurumsal müşteri sayısı: 852.3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Ocak-Mart 2007 döneminde en az bir kez internet bankacılığı işlemi yapmış kurumsal müşteri sayısı: 404.350  (oranı: % 4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Son 3 ayda kurumsal müşterilerin internet bankacılığı kullanım oranı, bireysel müşterilere göre daha yüksek olmuştu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42B9-DE0F-400C-B70D-10E97B4922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85690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just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333399"/>
                </a:solidFill>
                <a:latin typeface="Tahoma"/>
              </a:rPr>
              <a:t>Mart 2007 itibariyle, internet bankacılığı hizmeti kullanılarak yapılan yatırım işlemleri dışındaki finansal işlemlerin toplam adedi 45 milyon, tutarı 115,7 trilyon YT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38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200" spc="-1" strike="noStrike">
                <a:solidFill>
                  <a:srgbClr val="333399"/>
                </a:solidFill>
                <a:latin typeface="Tahoma"/>
              </a:rPr>
              <a:t>Mart 2006 ile karşılaştırıldığında finansal işlem adedinde % 30.5; toplam tutarda ise % 55.7 artış olmuştu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 algn="just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333399"/>
                </a:solidFill>
                <a:latin typeface="Tahoma"/>
              </a:rPr>
              <a:t>EFT, havale ve döviz transferi işlemlerini kapsayan para transferleri işlemleri, finansal işlem hacminin % 88’ini oluşturmaktadı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3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4449600"/>
            <a:ext cx="770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00000" y="5084640"/>
            <a:ext cx="7344000" cy="156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4724-22ED-474A-830C-0BD3E0587A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136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611280" y="4449600"/>
            <a:ext cx="770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2060640"/>
            <a:ext cx="842472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99"/>
                </a:solidFill>
                <a:latin typeface="Tahoma"/>
              </a:rPr>
              <a:t>Ocak-Mart 2007 döneminde internet bankacılığı ile gerçekleştirilen 9.671 bin adet yatırım işleminin hacmi 38.128 milyon YTL olmuştu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000099"/>
                </a:solidFill>
                <a:latin typeface="Tahoma"/>
              </a:rPr>
              <a:t>Mart 2006 – Mart 2007 döneminde işlem hacminde 305 bin adet ve 3.048 milyon YTL tutarında bir artış gerçekleşmişti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2276640"/>
            <a:ext cx="806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4360" y="4437000"/>
            <a:ext cx="763272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DFFF-E20A-4689-AFAD-8D408BF554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 Strateji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80629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Güvenlik ve Teknoloj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Görsel Tasarı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şlem Çeşitliliğ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Müşteri İlişkileri Hizmetle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Satış ve Tanıtı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EA26-0CE7-4201-970B-7B15E99D42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Türkiye’de İnternet Bankacılığı- Tehditler </a:t>
            </a: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(Amaç: Teknoloji Yoluyla Kişisel Bilgilerin Ele Geçirilmesi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00000" y="1989000"/>
            <a:ext cx="4608720" cy="28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Ph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Sahte Site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Trojan Horse (Truva Atı), Keylogger, Screen-Logger gibi Casus Program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Yüksek Kazanç Öneren e-posta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012000" y="1989000"/>
            <a:ext cx="2284200" cy="2087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116000" y="4869000"/>
            <a:ext cx="6551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06520" indent="-506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Müşterilere ait kişisel bilgiler, banka sistemine girilerek değil, bizzat müşterilerin bilgisayarlarına uzaktan erişilerek temin edilmektedi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4EF8-8736-40A4-B609-CD64687016B1}" type="slidenum">
              <a:t>1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560" y="6170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- Güvenli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060640"/>
            <a:ext cx="4608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İnternet Bankac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l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ğ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’nda güvenli ortam, banka ve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m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ü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teri taraf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dan beraberce yarat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lan zincirleme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ir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yap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 nitel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ndedir.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Zincirin halkalarından birini banka, diğerini de müşteri oluşturu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084720" y="2205000"/>
            <a:ext cx="2113200" cy="237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F437-6553-4FE9-86DD-9BBF534A0D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404640"/>
            <a:ext cx="7792920" cy="135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Bankalar Tarafından Sunulan Güvenlik Seçenekleri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82152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Tek kullanımlık şifre, Mobil İm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nternet işlemlerinde sınırla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Para transferi gerektiren işlemler için limit belirlem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Para transferi işlemleri için SMS ile uyarı mesajı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Keylogger, Screen-Logger gibi casus programları engellemek için özel yazılım programları (Örnek: Güvenlik Çember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Sanal klavy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Karşılama mesaj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şlem, zaman, servis sağlayıcı, IP sınırlaması</a:t>
            </a:r>
            <a:br>
              <a:rPr sz="2400"/>
            </a:b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E205-6B14-4DB7-8868-52EE2D7CF6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Müşteri Tarafında Alınması Gereken Güvenlik Önlem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1844640"/>
            <a:ext cx="82152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1844640"/>
            <a:ext cx="82152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Her şeyden önce bankanın sunduğu güvenlik seçeneklerini iyi tanımalı ve bunlardan kendisi için en uygun olanını seçip kullanmal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nternet Şubesine güvenli giriş için öncelikle Bankanın internet şubesine güvenli yoldan girilmesi gerekmektedi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Bunun için müşteriler tarafında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Bankanın internet adresi tarayıcı programının adres çubuğuna yazılmalı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nternet sitesine e-posta ile gelen ya da arama motorları ile ulaşılan linkler üzerinden giriş yapılmamalı 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Kullanılan internet tarayıcısının güncel olduğu ve tüm güvenlik ayarlarının yüklenmiş olduğu kontrol edilmelidir.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244000" y="645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68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Günd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844640"/>
            <a:ext cx="8209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İ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nternetin Tarihçe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Dünyada İnternet Kullanım Oranlar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Türkiye’de İnternet Kullanım Oranı ve Amaçlar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Kullanım Oranlar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Stratej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Tehdit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Güvenlik Önleml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Bankal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Müşter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73AB-3FF4-46E5-AB3C-2CE02807CB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Müşteri Tarafında Alınması Gereken Güvenlik Önlem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2060640"/>
            <a:ext cx="820728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ilgisayarda virüslere kar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 sürekli olarak en güncel anti-virüs, anti-spy ve firewall yaz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l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lar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 yüklenmeli ve belli aral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klarla güncellen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İçerik sa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lay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c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s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dan emin olunmayan internet sitelerine  girilmemeli, tan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mayan k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lerden gelen e-postalar açılmamal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-posta ve bunun gibi kanallarla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fre ve k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sel bilgilerin      gönderilmemesine dikkat edil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Hesaplar düzenli olarak kontrol edilmeli ve herhangi bir hata  tespit edildiğinde ivedilikle bankaya bildiril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44000" y="645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Müşteri Tarafında Alınması Gereken Güvenlik Önlem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1989000"/>
            <a:ext cx="79912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fre ve parolanın belli periyotlarla de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tirilmesi ve belirlenecek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frenin kolay tahmin edilebilir olmamasına dikkat edil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Her banka ya da d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r internet siteleri için farklı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fre ve parola kullanılmal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Şifre ve parola, 3. şahısların ulaşabileceği şekilde, herhangi bir yere yazılmamalı ve yazılı olarak cüzdanda ya da çantada taşınmamal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Şifre ve parolanın 3. kişilerin eline geçmesi ya da bundan şüphe duyulması durumunda derhal bankaya bildiril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4000" y="645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55640" y="2707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eşekkür ederiz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8708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İnter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nternet, bilgisayar sisteminin birbirine bağlı olduğu dünya çapında yaygın olan ve sürekli büyüyen bir iletişim ağı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nternet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bilgiye ulaşı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bilgiyi paylaşım 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elde edilen bilgiyi kullanı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platformudur</a:t>
            </a: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63ED-ADF0-49D2-B06E-DA9F7B52C9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33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ünden Bugüne İnter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65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in temelleri, 1960lı yılların başında askeri amaçlarla ARPANET adı altında atılmışt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62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J.C.R Licklider “Massachusettes Institute of Technology” (MIT)’de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“Galaktik Ağ” kavramını geliştirdi. Bu kavram, küresel olarak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bağlanmış bir sistemde herhangi bir yerden istenilen verilere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erişme imkanını ifade etmekteyd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65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MIT’de bilgisayarlar ilk kez birbirleriyle “konuşturuldu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69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lk geniş alan ağı olan ARPANET, DARPA (Defence Advanced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Projects Agency) bünyesinde askeri amaçlarla geliştirild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ynı dönemde, 4 farklı merkezdeki bilgisayarlar arasında bağlantı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kurularak internetin ilk uygulaması gerçekleştirild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71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RPANET, Ağ Kontrol Protokolü (NCP-Network Control Protokol) ile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çalışmaya başlad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72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E-posta ilk defa ARPANET içinde kullanılmaya başland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7217-0FA7-4016-85FB-D988BF8FA1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33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ünden Bugüne İnternet – 2</a:t>
            </a: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73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lk araştırmalarda, kullanıcı sayısı yaklaşık 2.000 kişi, e-posta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kullanım oranı ise % 75 olarak tespit edilmiştir. ARPANET’e ilk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uluslararası bağlantı sağlanmışt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83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RPANET, İletişim Kontrol Protokolü (TCP/IP- Transmission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Control Protokol/Internet Protokol) ile çalışmaya başladı. TCP/IP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bugünkü İnternet ağının da ana halkasını oluşturu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85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merikan askeri bilgisayar ağı ARPANET’ten ayrıldı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87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merika’da hükümet desteği ile 7 bölgesel nokta üzerinde NFSNET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dı altında İnternet yapılanması sağlandı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90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NFSNET’in işletilmesi sürecine IBM ve MCI gibi özel şirketlerin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katılımıyla İnternetin özelleştirilme süreci başladı ve ARPANET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kullanımdan kaldırıldı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95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BD’de internet işletimi tamamen özel sektöre geçirildi ve WEB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sayfaları hazırlanmaya başland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2000ler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 hızla gelişerek, günlük hayatımızın her alanında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vazgeçilmez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bir yer edinmiştir</a:t>
            </a:r>
            <a:r>
              <a:rPr b="0" lang="tr-TR" sz="19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9AE5-7D13-4DC8-AF41-EFB4A1482D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33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ünden Bugüne İnternet -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11280" y="2349360"/>
            <a:ext cx="2808360" cy="3092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284720" y="2133720"/>
            <a:ext cx="3959280" cy="3240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5280" y="566100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69 - İlk İnternet hattı tasarım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27640" y="56610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Günümüzdeki İnternet hatlarının görünüm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B34D-0D9A-4AA8-817E-3EA59D0CCE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ünyada Kullanım Oran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1989000"/>
            <a:ext cx="84960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Dünyada İnternet kullanım oranı 2000-2007 döneminde % 208,7 oranında artmı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Dünyada İnternet kullanan nüfus 1 milyarı aşmı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Toplam dünya nüfusunun yaklaşık %17’si internet kullanmakta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24000" y="3716280"/>
          <a:ext cx="8424360" cy="2604960"/>
        </p:xfrm>
        <a:graphic>
          <a:graphicData uri="http://schemas.openxmlformats.org/drawingml/2006/table">
            <a:tbl>
              <a:tblPr/>
              <a:tblGrid>
                <a:gridCol w="1970640"/>
                <a:gridCol w="1199160"/>
                <a:gridCol w="1072800"/>
                <a:gridCol w="1192680"/>
                <a:gridCol w="1197720"/>
                <a:gridCol w="894960"/>
                <a:gridCol w="896400"/>
              </a:tblGrid>
              <a:tr h="29196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WORLD INTERNET USAGE AND POPULATION STATISTICS *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World Reg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Population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( 2007 Est.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Population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% of Worl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Internet Usage,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atest Da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% Population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( Penetration 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Usage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% of Worl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Usage Growth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000-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Times New Roman"/>
                          <a:hlinkClick r:id="rId1"/>
                        </a:rPr>
                        <a:t>Afr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933,448,29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4.2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3,334,8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.6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638.4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Times New Roman"/>
                          <a:hlinkClick r:id="rId2"/>
                        </a:rPr>
                        <a:t>As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,712,527,6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6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98,709,0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5.8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48.8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rop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809,624,6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2.3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14,792,2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8.9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8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99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ddle Ea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93,452,7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.9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9,424,7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491.4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th Amer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34,538,0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.1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33,188,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69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15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tin America/Caribbe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56,606,6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8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96,386,0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7.3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8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433.4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eania / Austral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4,468,4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0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8,439,54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3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42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WORLD TO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6,574,666,4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0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,114,274,4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6.9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0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08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468360" y="6453360"/>
            <a:ext cx="712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imes New Roman"/>
              </a:rPr>
              <a:t>* Kaynak: </a:t>
            </a:r>
            <a:r>
              <a:rPr b="0" lang="tr-TR" sz="1800" spc="-1" strike="noStrike" u="sng">
                <a:solidFill>
                  <a:srgbClr val="333399"/>
                </a:solidFill>
                <a:uFillTx/>
                <a:latin typeface="Times New Roman"/>
              </a:rPr>
              <a:t>http://www.internetworldstats.com/stats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9AE1-527A-47E2-906C-7E5DE38E64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Dünyada Kullanım Oranları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00000" y="2781360"/>
          <a:ext cx="7272360" cy="35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781360"/>
                    <a:ext cx="727236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1042920" y="206064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Bölgelere göre internet kullanıcısı oranlar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7D10-B6D8-4F21-8611-19A7486E7D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vrupa’da İnternet Kullanımı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03640" y="2781360"/>
            <a:ext cx="3951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Şube kullanımını etkileyen faktörle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Şube dışı kanalların daha ekonomik olmas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Erişim kolaylığı (7/24 saa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Yeni neslin teknolojiye yatkınlığ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Aylık şube kullanımı son 5 yılda genç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nüfusun bankacılık hizmetlerind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yararlanmaya başlanması 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%55’ten %40’a düşmüştü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198900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 deneyimi arttıkça diğer kanalların kullanımı düşmekte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4000" y="2852640"/>
          <a:ext cx="4537080" cy="31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852640"/>
                    <a:ext cx="453708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324000" y="2565360"/>
            <a:ext cx="453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333399"/>
                </a:solidFill>
                <a:latin typeface="Tahoma"/>
              </a:rPr>
              <a:t>İnternet Bankacılığının Kanal Kullanımı üzerindeki etki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47640" y="32130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A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03280" y="371628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0000"/>
                </a:solidFill>
                <a:latin typeface="Arial"/>
                <a:ea typeface="Arial"/>
              </a:rPr>
              <a:t>Şube Kullanım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19280" y="4437000"/>
            <a:ext cx="104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cc00"/>
                </a:solidFill>
                <a:latin typeface="Arial"/>
                <a:ea typeface="Arial"/>
              </a:rPr>
              <a:t>İnternet Bankacılığ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4869000"/>
            <a:ext cx="82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66ffff"/>
                </a:solidFill>
                <a:latin typeface="Arial"/>
                <a:ea typeface="Arial"/>
              </a:rPr>
              <a:t>Şubeye danış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24360" y="4869000"/>
            <a:ext cx="93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ff33cc"/>
                </a:solidFill>
                <a:latin typeface="Arial"/>
                <a:ea typeface="Arial"/>
              </a:rPr>
              <a:t>Çağrı merkezi/IV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87640" y="4724280"/>
            <a:ext cx="79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333399"/>
                </a:solidFill>
                <a:latin typeface="Arial"/>
                <a:ea typeface="Arial"/>
              </a:rPr>
              <a:t>Şubeye yazılı başvur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5640" y="6237360"/>
            <a:ext cx="39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58920" y="5950080"/>
            <a:ext cx="23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333399"/>
                </a:solidFill>
                <a:latin typeface="Arial"/>
                <a:ea typeface="Arial"/>
              </a:rPr>
              <a:t>İnternet Deney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6093000"/>
            <a:ext cx="5968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71640" y="6093000"/>
            <a:ext cx="64908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5950080"/>
            <a:ext cx="268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6381720"/>
            <a:ext cx="39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333399"/>
                </a:solidFill>
                <a:latin typeface="Tahoma"/>
              </a:rPr>
              <a:t>Kaynak: Copyright IBM Corporation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8F71-0DF3-4EC6-8479-220D87F678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21:35:40Z</dcterms:created>
  <dc:creator>Tugba</dc:creator>
  <dc:description/>
  <dc:language>en-US</dc:language>
  <cp:lastModifiedBy>T. İş Bankası A. Ş.</cp:lastModifiedBy>
  <dcterms:modified xsi:type="dcterms:W3CDTF">2007-05-17T12:22:41Z</dcterms:modified>
  <cp:revision>75</cp:revision>
  <dc:subject/>
  <dc:title>İNTERNET BANKACILIĞI</dc:title>
</cp:coreProperties>
</file>